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46A-A9D3-461F-8D7A-0E458B07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277-15F8-460B-9F66-09E7E565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181-11A5-4ED0-ACD9-C8811A46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E4B-0E4F-4863-8BAC-C74945E2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853-4F55-4FBE-8CD8-D40E4199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501F-8F1E-4F21-8D83-D2DE25C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B4A9-91AF-41E1-BE5D-8A328C0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2359-4F79-49DD-8422-F4957C4C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04B8-1387-473C-942B-780C1C9D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7ED2-CBB2-403D-9F56-29A6A63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42B-7617-489F-B8C5-2E64BA7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EE5-3057-466D-A757-265B1DF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C235-7AAF-4E60-9BB8-9097BB2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6B22-A122-4D1E-920C-869F6BA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E346-6963-4234-998F-CDD5F306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C57-3256-4B20-8642-28F73ACF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84DA-297D-4B79-A936-E32C79A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4379-D9DD-422B-BBFF-B22508ED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A2C4-7A9F-44FD-898C-DC9C6ED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C9BB-E3D7-4206-B0E9-9969F963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0D69-AED9-408C-863A-CD18742D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C29C-8B60-40AF-BE5E-EA7B4204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082-3BAD-4F76-9F2A-5C1F2755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48B9-7D23-486C-BBA9-DBC8601F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51FA-A1CF-4634-9ECE-7EEA1D8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A8A2-ECB5-4771-BFB6-F9CDFB5E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8B0C-23FB-462F-8B5A-BDD79E3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C53D-5C04-41C5-9B34-FE1FEF3E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97D0-169B-4DFD-BF7E-237E15A3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9C15-CA7C-4E0F-B32D-89DD526B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5D5AF-2FAA-4177-A06B-F38ED50F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D24C-3534-40CE-B43D-3F0724EA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A6D4-F4A2-4401-AA1A-9CA8C0A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71E-C83D-4DEA-8DD9-C1DDF466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A498-2608-46AF-A4A4-6384413D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69A7-4E5A-42D2-B89E-ACC5F0E1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8455-66A7-436F-9427-510F94AF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0B2C-BA8D-4352-8487-5DAE41D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52EC-72E3-458E-9FFD-CD731F09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790A-5B65-4E0D-8763-D5CE03A7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6A78-D921-4290-8AA5-D6CCEFE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6CBE-A37E-45C8-9053-6850BED1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57F8-9805-4A86-9AB0-94CEDEEC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70BB8-15D1-495F-8628-88FC7B73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218-335E-4D5B-890F-78DAD57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DE2BE-9079-4433-A7A8-0619EA5D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C9F7-91EF-4967-98BF-405E5F7C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5FA0-8789-41CD-BF5D-6F67B3B3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12E8-7E3C-49D7-ABB1-9BDBC8D4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95E9C-0EBE-434A-97FE-D9F6F21B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D8301-C573-4F14-83DF-FAA8A774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A3D8-7D25-4F26-AD4C-D4221306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E2B0-9C30-4506-A96A-AA9A830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C0D0-E396-4077-B392-0F53D14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CB8B-D0C9-4904-AF0D-114087CA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B42-F5C8-41E0-894B-D599325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2CC4-57CA-48A5-BD8C-4E2E635D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81D-1B23-4D3B-8AF5-DEE03265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A66-1105-4A1A-8BD2-E0CE849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BF8-7BF0-4E93-BF1D-9615D96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286-4906-484C-8AF6-C0C0DAF27BA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BBD-D459-470E-A8EE-3B0ED95420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FCA8-2528-46F7-AA7F-FE398C07716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5566-7263-48F4-A868-4B56D8ECE3A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41D1-F9D9-45CD-A6B1-C1E962A1E2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roe.lib.in.us/childrens/ddc000.html" TargetMode="External"/><Relationship Id="rId2" Type="http://schemas.openxmlformats.org/officeDocument/2006/relationships/hyperlink" Target="http://www.monroe.lib.in.us/childrens/ddc100.html" TargetMode="External"/><Relationship Id="rId3" Type="http://schemas.openxmlformats.org/officeDocument/2006/relationships/hyperlink" Target="http://www.monroe.lib.in.us/childrens/ddc200.html" TargetMode="External"/><Relationship Id="rId4" Type="http://schemas.openxmlformats.org/officeDocument/2006/relationships/hyperlink" Target="http://www.monroe.lib.in.us/childrens/ddc300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se card catalogs and computer databases to locate sources for research topic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5.1a-Select the best source for a given purpo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5.1a 011.jpg"/>
          <p:cNvPicPr/>
          <p:nvPr/>
        </p:nvPicPr>
        <p:blipFill>
          <a:blip r:embed="rId1"/>
          <a:srcRect l="4277" t="14443" r="7934" b="25557"/>
          <a:stretch/>
        </p:blipFill>
        <p:spPr>
          <a:xfrm>
            <a:off x="1752480" y="457200"/>
            <a:ext cx="5334120" cy="60008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362320" y="2133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hat is the topic of this paragraph?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514600" y="2590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nne Sullivan; manual alphabet; Brail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5.1a 012.jpg"/>
          <p:cNvPicPr/>
          <p:nvPr/>
        </p:nvPicPr>
        <p:blipFill>
          <a:blip r:embed="rId1"/>
          <a:srcRect l="9763" t="12222" r="9763" b="76642"/>
          <a:stretch/>
        </p:blipFill>
        <p:spPr>
          <a:xfrm>
            <a:off x="1371600" y="304920"/>
            <a:ext cx="6629400" cy="1509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5.1a 012.jpg"/>
          <p:cNvPicPr/>
          <p:nvPr/>
        </p:nvPicPr>
        <p:blipFill>
          <a:blip r:embed="rId2"/>
          <a:srcRect l="9763" t="30787" r="9763" b="38889"/>
          <a:stretch/>
        </p:blipFill>
        <p:spPr>
          <a:xfrm>
            <a:off x="1066680" y="1981080"/>
            <a:ext cx="7248600" cy="44960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1752480" y="3657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reathing underwa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1828800" y="5486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reathing underwa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5.1a 013.jpg"/>
          <p:cNvPicPr/>
          <p:nvPr/>
        </p:nvPicPr>
        <p:blipFill>
          <a:blip r:embed="rId1"/>
          <a:srcRect l="7934" t="35588" r="9763" b="34421"/>
          <a:stretch/>
        </p:blipFill>
        <p:spPr>
          <a:xfrm>
            <a:off x="1143000" y="2500200"/>
            <a:ext cx="7010280" cy="420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5.1a 013.jpg"/>
          <p:cNvPicPr/>
          <p:nvPr/>
        </p:nvPicPr>
        <p:blipFill>
          <a:blip r:embed="rId2"/>
          <a:srcRect l="7934" t="12222" r="9763" b="70889"/>
          <a:stretch/>
        </p:blipFill>
        <p:spPr>
          <a:xfrm>
            <a:off x="1295280" y="228600"/>
            <a:ext cx="6934320" cy="23432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1905120" y="4114800"/>
            <a:ext cx="228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what it feels like to be in spac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1828800" y="5943600"/>
            <a:ext cx="228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what it feels like to be in spac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5.1a 014.jpg"/>
          <p:cNvPicPr/>
          <p:nvPr/>
        </p:nvPicPr>
        <p:blipFill>
          <a:blip r:embed="rId1"/>
          <a:srcRect l="7934" t="35174" r="9763" b="34241"/>
          <a:stretch/>
        </p:blipFill>
        <p:spPr>
          <a:xfrm>
            <a:off x="1143000" y="2666880"/>
            <a:ext cx="6477120" cy="3962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5.1a 014.jpg"/>
          <p:cNvPicPr/>
          <p:nvPr/>
        </p:nvPicPr>
        <p:blipFill>
          <a:blip r:embed="rId2"/>
          <a:srcRect l="7934" t="12255" r="9763" b="71774"/>
          <a:stretch/>
        </p:blipFill>
        <p:spPr>
          <a:xfrm>
            <a:off x="838080" y="304920"/>
            <a:ext cx="7391520" cy="2360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1905120" y="41148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e history of the Star-Spangled Banner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82880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The history of the Star-Spangled Banner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Content Placeholder 8" descr="card catalog card.tif"/>
          <p:cNvPicPr/>
          <p:nvPr/>
        </p:nvPicPr>
        <p:blipFill>
          <a:blip r:embed="rId1"/>
          <a:srcRect l="6452" t="27999" r="16324" b="38316"/>
          <a:stretch/>
        </p:blipFill>
        <p:spPr>
          <a:xfrm>
            <a:off x="228600" y="762120"/>
            <a:ext cx="8480520" cy="4800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609480" y="388584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is card is listed by author, Gary Paulsen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It could also be located by looking up the title, The Crossing, or the subject matter: emotional problems—young adult fiction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What other information is given on the card catalog?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What information does the computer catalog provide that the card catalog cannot?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96464"/>
                </a:solidFill>
                <a:latin typeface="Franklin Gothic Book"/>
              </a:rPr>
              <a:t>Card Catalog vs. Computer Catalog</a:t>
            </a:r>
            <a:endParaRPr b="0" lang="en-US" sz="3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5"/>
          <p:cNvSpPr/>
          <p:nvPr/>
        </p:nvSpPr>
        <p:spPr>
          <a:xfrm>
            <a:off x="1523880" y="1523880"/>
            <a:ext cx="5562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Title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history of radio/by Tom Harvey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Author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arvey, Tom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Call Number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J791.4 HARVE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Publisher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llas : Smith Publishing, Inc., c 1998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Description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352 p. : 24 cm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Notes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ludes index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Summary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vides a history of radio from its invention to the present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Format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Juveni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45792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Which two lines on the card catalog indicate that this book would be useful in researching Nathan Stubblefield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uthor and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itle and Summa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all Number and N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ublisher and Descrip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685800" y="38088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Nathan Stubblefield failed to file the proper paperwork to prove his inventions were really his ow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He died penniless and unknown in 1928. In 1930, the people of Murray, Kentucky, erected a monument to Nathan Stubblefield, with an inscription calling him “the inventor of radio.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rd Catalo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Every book still has a unique call number—a label made up of a series of numbers and/or letter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Here we use FIC for fiction, Dewey decimal numbers for non-fiction, and B for Biographies.  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Once you know the call number of the item you need, just follow the signs to find that location in the library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C:\Documents and Settings\maxweel\Local Settings\Temporary Internet Files\Content.IE5\C5UFK5QN\MPj04395100000[1].jpg"/>
          <p:cNvPicPr/>
          <p:nvPr/>
        </p:nvPicPr>
        <p:blipFill>
          <a:blip r:embed="rId1"/>
          <a:stretch/>
        </p:blipFill>
        <p:spPr>
          <a:xfrm>
            <a:off x="4952880" y="3886200"/>
            <a:ext cx="3733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581040"/>
            <a:ext cx="838224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Dewey Decimal System-you may go to each section and look at the shelves for possible books that could be used as sources in research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1"/>
              </a:rPr>
              <a:t>000 General Knowledg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lmanacs, Encyclopedias, Libraries, Museums, Newspapers, Journalism, Computers, News Media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2"/>
              </a:rPr>
              <a:t>100 Psychology and Philosophy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Death &amp; Dying, Ethics, Feelings, Logic, Making Friends, Optical Illusions, Superstition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3"/>
              </a:rPr>
              <a:t>200 Religions and Mytholog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mish, Bible Stories, Buddhism, Christianity, Judaism, Islam, Quakers, and other world religions; Greek, Roman and other myths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9900"/>
                </a:solidFill>
                <a:uFillTx/>
                <a:latin typeface="Verdana"/>
                <a:ea typeface="Times New Roman"/>
                <a:hlinkClick r:id="rId4"/>
              </a:rPr>
              <a:t>300 Social Sciences and Folklor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areers, Customs, Environment, Families, Folktales, Ghost Stories, Government, Etiquette, Manners, Money, Recycling, Social Groups, Culture, Law, Civil &amp; Political Rights, Military, Criminology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400 Languages and Grammar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hinese, English, French, German, Italian, Japanese, Sign Language, Spanish. Includes dictionaries.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500 Math and Scienc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nimals, Algebra, Biology, Chemistry, Dinosaurs, Fish, Geology, Insects, Physics, Planets, Plants, Fossils, Evolutions, Birds, Mammal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600 Medicine and Technolog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uters, Cookbooks, Engineering, Farming, Health, Diseases, Medicine, Human Body, Inventions, House Keeping, Child Care, Manufacturing, Nutrition, Advertising, Accounting, Pets, Hunting &amp; Fishing, Car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700 Arts &amp; Recreat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Architecture, Crafts, Drawing, Games, Landscape Design, Music, Puppets, Songbooks, Sculptures, Photography, Sport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800 Literatur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Children's Literature, Plays, Poetry, Shakespeare, Writing, Jokes, Speeches ...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336633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6633"/>
                </a:solidFill>
                <a:latin typeface="Verdana"/>
                <a:ea typeface="Times New Roman"/>
              </a:rPr>
              <a:t>900 Geography and Histor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iographies, Countries, Native Americans, States, World History, Travel, Wars ...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ataba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erpetua"/>
              </a:rPr>
              <a:t>Organized collection of data—usually digital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erpetua"/>
              </a:rPr>
              <a:t>Can be magazine articles, journal articles, names, or any data set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erpetua"/>
              </a:rPr>
              <a:t>Sometime databases are based on subjects like History, Math, Science, or Geography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96464"/>
                </a:solidFill>
                <a:latin typeface="Franklin Gothic Book"/>
              </a:rPr>
              <a:t>How can a reader select the best source for information about a research topic?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need to know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opic being research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additional information about the topic could be research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sources are availab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ther the information is likely to be in the sour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5.1a 010.jpg"/>
          <p:cNvPicPr/>
          <p:nvPr/>
        </p:nvPicPr>
        <p:blipFill>
          <a:blip r:embed="rId1"/>
          <a:srcRect l="8804" t="7778" r="10179" b="63872"/>
          <a:stretch/>
        </p:blipFill>
        <p:spPr>
          <a:xfrm>
            <a:off x="457200" y="609480"/>
            <a:ext cx="8201160" cy="47246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838080" y="5562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topic of this passage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5.1a 010.jpg"/>
          <p:cNvPicPr/>
          <p:nvPr/>
        </p:nvPicPr>
        <p:blipFill>
          <a:blip r:embed="rId1"/>
          <a:srcRect l="7934" t="36083" r="11591" b="25020"/>
          <a:stretch/>
        </p:blipFill>
        <p:spPr>
          <a:xfrm>
            <a:off x="1676520" y="533520"/>
            <a:ext cx="7086600" cy="56386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9"/>
          <p:cNvSpPr/>
          <p:nvPr/>
        </p:nvSpPr>
        <p:spPr>
          <a:xfrm>
            <a:off x="2590920" y="4876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ions on Prun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259092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ions on Prun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209680" y="1447920"/>
            <a:ext cx="6324840" cy="1066680"/>
          </a:xfrm>
          <a:prstGeom prst="rect">
            <a:avLst/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209680" y="2514600"/>
            <a:ext cx="6324840" cy="16002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209680" y="4114800"/>
            <a:ext cx="6324840" cy="1523880"/>
          </a:xfrm>
          <a:prstGeom prst="rect">
            <a:avLst/>
          </a:prstGeom>
          <a:solidFill>
            <a:srgbClr val="9e3611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2438280" y="91440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ions on pruning; the difference between a hybrid and a floribunda;pH levels; alkaline; liquid vitamin B-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09:40Z</dcterms:created>
  <dc:creator>maxweel</dc:creator>
  <dc:description/>
  <dc:language>en-US</dc:language>
  <cp:lastModifiedBy>maxweel</cp:lastModifiedBy>
  <dcterms:modified xsi:type="dcterms:W3CDTF">2011-03-21T16:29:53Z</dcterms:modified>
  <cp:revision>37</cp:revision>
  <dc:subject/>
  <dc:title>5.1a</dc:title>
</cp:coreProperties>
</file>